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449-87D0-4E01-B552-0AC51237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360-870D-4F9E-8811-CA29D0E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21B-60CA-4697-A748-6B13D92D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D53-D537-477D-B294-80757E5C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043A-9A53-49FC-BD14-58AAFB7E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18B-F000-4E44-8A82-5DBD0149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3910-E334-4E25-ABF6-D8B1E6D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325-F617-49F3-8095-38FB440E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F6A-4CA4-4953-AE0A-DEA44A3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CB3-12A8-42A1-ACA0-4F5EB2E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355-E34F-47B3-9B3D-DF736C0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3E0-E605-4996-845C-FC623F3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FC8A-5EEE-450F-AD4A-8592FEE0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F0C-F51C-421B-A94B-09AC4401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EC1D-7176-44B5-BE39-9B29410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4CF-F795-45B0-906E-5DD58682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3985-D725-4233-A24C-D445F0A8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CE4-1A30-4335-8B54-4B772C02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915-E94B-4A03-9ABB-34F63D14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3AC-0F03-41FF-A4D9-039E97FC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8C8-7F1F-4182-B4DA-9165F64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C2C-40B4-46E5-8140-F256E105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37F-5C7D-4B98-B2B1-A91BFA5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BF8-1D2B-4363-B281-8F38562C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F75-2F6E-46A3-A2FE-1758E0E19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1803-A352-4E01-8BEB-B9799755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 Upd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Coming real soon now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ynteny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726" t="26410" r="2073" b="11776"/>
          <a:stretch/>
        </p:blipFill>
        <p:spPr>
          <a:xfrm>
            <a:off x="228600" y="1752480"/>
            <a:ext cx="876924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350" t="15911" r="4024" b="9518"/>
          <a:stretch/>
        </p:blipFill>
        <p:spPr>
          <a:xfrm>
            <a:off x="38088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ature Filtering &amp; Coloring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mit feature displays to those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lor background of features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Remote Annot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ll DAS Sup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s merged into one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 types merged onto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New Features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atabase Adap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::DB::GFF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do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SQL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BL Prox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Multiple Alignment Display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56" t="20835" r="2941" b="14584"/>
          <a:stretch/>
        </p:blipFill>
        <p:spPr>
          <a:xfrm>
            <a:off x="685800" y="1676520"/>
            <a:ext cx="8153280" cy="47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056" t="17742" r="2056" b="18819"/>
          <a:stretch/>
        </p:blipFill>
        <p:spPr>
          <a:xfrm>
            <a:off x="685800" y="16765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2056" t="17742" r="2941" b="12367"/>
          <a:stretch/>
        </p:blipFill>
        <p:spPr>
          <a:xfrm>
            <a:off x="685800" y="16765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Histograms &amp; XY Plo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nfigurable Overview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945" t="28889" r="2830" b="13638"/>
          <a:stretch/>
        </p:blipFill>
        <p:spPr>
          <a:xfrm>
            <a:off x="609480" y="19051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lip Coordinat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405" t="28555" r="2752" b="24645"/>
          <a:stretch/>
        </p:blipFill>
        <p:spPr>
          <a:xfrm>
            <a:off x="233280" y="1897200"/>
            <a:ext cx="8645760" cy="33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334" t="31069" r="2910" b="19112"/>
          <a:stretch/>
        </p:blipFill>
        <p:spPr>
          <a:xfrm>
            <a:off x="228600" y="1905120"/>
            <a:ext cx="8637480" cy="355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lugin Layer for Gene Predic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941" t="17742" r="3831" b="13444"/>
          <a:stretch/>
        </p:blipFill>
        <p:spPr>
          <a:xfrm>
            <a:off x="7621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Lots of New Glyphs</a:t>
            </a: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ice acceptor/donor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croarray red/green box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ytogenetic band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/Y graph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1:16:38Z</dcterms:modified>
  <cp:revision>534</cp:revision>
  <dc:subject/>
  <dc:title>Training</dc:title>
</cp:coreProperties>
</file>